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B5F-FD56-4392-80EF-163A3748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EFE-E981-4CC5-82CA-DFC5CF2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C62-03D0-402B-B88A-E2E59DA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24D-8831-48D3-8956-F935BDF7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8BA-0CEC-42DB-A26F-9C995E86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4F1-6DCD-4BA0-B04C-FED1449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0F9-A2B5-4EA9-BDC9-CAD2806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47A-76D6-40D2-AA83-64AA34E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0AF-5B1C-40CE-A31D-AD6CBCF6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D60-E840-4741-8397-24E8AC1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8B2-94FC-466D-82EF-59F6B39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9E1-6C04-4B24-8B6D-34330CA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1E3-7705-48DA-B252-0F2F6AAF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washington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80921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postcardsfrom.com/t1/980922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1055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762120"/>
            <a:ext cx="7391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ashingt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986360"/>
            <a:ext cx="342900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4648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20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linois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7/10,www.50states.com/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name: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Olym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894,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November 11 1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: By an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vergre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Pink Rhododend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Willow gold fin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ashington m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after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1224000" cy="128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shington: Map and State Flag"/>
          <p:cNvPicPr/>
          <p:nvPr/>
        </p:nvPicPr>
        <p:blipFill>
          <a:blip r:embed="rId1"/>
          <a:srcRect l="8337" t="0" r="8337" b="63256"/>
          <a:stretch/>
        </p:blipFill>
        <p:spPr>
          <a:xfrm rot="20701800">
            <a:off x="607680" y="1292400"/>
            <a:ext cx="3048120" cy="18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ashington: Map and State Flag"/>
          <p:cNvPicPr/>
          <p:nvPr/>
        </p:nvPicPr>
        <p:blipFill>
          <a:blip r:embed="rId2"/>
          <a:srcRect l="1906" t="54165" r="3645" b="2955"/>
          <a:stretch/>
        </p:blipFill>
        <p:spPr>
          <a:xfrm rot="897600">
            <a:off x="5140080" y="1430280"/>
            <a:ext cx="316692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5627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’s Guide to U.S govrnment,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ick Facts:Washingt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2/2010.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washing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picture of Washington’s outline and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River and deep gorge"/>
          <p:cNvPicPr/>
          <p:nvPr/>
        </p:nvPicPr>
        <p:blipFill>
          <a:blip r:embed="rId1"/>
          <a:stretch/>
        </p:blipFill>
        <p:spPr>
          <a:xfrm>
            <a:off x="0" y="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3276720"/>
            <a:ext cx="434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s from Americ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umbia River washington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/23/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postcardsfrom.com/t1/9809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ll images Copyright © 1997 - 2000 WriteLine. All Rights Reserved. Panoramic of balconies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24280" y="3276720"/>
            <a:ext cx="4419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s form Americ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ympia, WA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/23/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postcardsfrom.com/t1/98092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22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Columbia river in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1522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the picture of the Washington capital Olym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2Z</dcterms:created>
  <dc:creator>install</dc:creator>
  <dc:description/>
  <dc:language>en-US</dc:language>
  <cp:lastModifiedBy>install</cp:lastModifiedBy>
  <dcterms:modified xsi:type="dcterms:W3CDTF">2010-10-14T15:21:21Z</dcterms:modified>
  <cp:revision>10</cp:revision>
  <dc:subject/>
  <dc:title>Slide 1</dc:title>
</cp:coreProperties>
</file>